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14A-5B9C-4F6A-A4D2-2BE2E8DF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52B0-BC8D-4757-8F72-8A5B199A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E7C-6BB6-4EB5-A647-CDC1F36D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BCE4-2D74-427B-AAC5-CF7CB725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DFD3-8A17-4E87-AA49-74E920BB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249-C4EB-4221-8B6F-52C9BAA1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E79D-96A6-4DD7-A9E9-38A4D82C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9E55-7045-42B6-852F-ADC42DB9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69A-C18B-4BF5-8D25-61C46D51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48A0-5FF7-4580-93B0-5A60B362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50F4-5377-4584-B44B-BDE1CA09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983D-026C-4611-9D0B-134DD40E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7457-7668-4AA6-99A9-6BAD89B5137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20160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د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وحدود الاستفادة من النسب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B3C-38FC-4EAC-A1D1-9D9AFD7A09FE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879480"/>
            <a:ext cx="7772760" cy="69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2421000"/>
            <a:ext cx="369720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رارات شراء أو بيع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ربحية والسي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2000" y="3747960"/>
            <a:ext cx="273672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ارباح المحققة (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EPS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ي الرب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3718080"/>
            <a:ext cx="2521080" cy="20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عائد الحقيقي لل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بلغ الموز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ة السوق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3716280"/>
            <a:ext cx="2592360" cy="20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5300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5720" y="4970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9DD-5228-43FB-9C0A-78A07CC14C21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809640"/>
            <a:ext cx="7772760" cy="78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دائنون والبنو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514600"/>
            <a:ext cx="44654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مساعدة على منح الائتمان من عدم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3930480"/>
            <a:ext cx="7488360" cy="223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سب القروض الى حقوق المساهم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تداو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خز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دين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67B6-66FC-4310-87D5-764F26CB35E0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985680"/>
            <a:ext cx="7772760" cy="716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دارة المنشأ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416320"/>
            <a:ext cx="7775280" cy="367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نصيب السهم من الأرب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العائد على حقوق الملك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قروض الى حقوق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رأس ال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اص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656F-D99B-4400-B01A-1CBC59D8110A}" type="slidenum">
              <a:t>4</a:t>
            </a:fld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1275840"/>
            <a:ext cx="7772760" cy="71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احص الضري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900520"/>
            <a:ext cx="8001000" cy="2328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سترشاد بالنسب المالية للمساعدة على الاطمئنان الى صحة 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ص الرواتب ومقارنتها باجمالي الدخل ومقارنتها مع السنة الساب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8F8D-1427-436E-B7BA-A0AACA4BEFBE}" type="slidenum">
              <a:t>5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1956960"/>
            <a:ext cx="7772760" cy="740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429000"/>
            <a:ext cx="78483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اعدة في ابداء الرأ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A4A-BA39-4455-9F8F-BDA265868CD0}" type="slidenum">
              <a:t>6</a:t>
            </a:fld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1915920"/>
            <a:ext cx="7772760" cy="7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خيرا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500280"/>
            <a:ext cx="777528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من النسب المالية في الت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ؤ بنجاح أو ف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7274-A1C1-4FF7-BA7E-9F1CF02FC9EC}" type="slidenum">
              <a:t>7</a:t>
            </a:fld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907920"/>
            <a:ext cx="7772400" cy="1081080"/>
          </a:xfrm>
          <a:prstGeom prst="downArrowCallout">
            <a:avLst>
              <a:gd name="adj1" fmla="val -177836"/>
              <a:gd name="adj2" fmla="val 179737"/>
              <a:gd name="adj3" fmla="val 16667"/>
              <a:gd name="adj4" fmla="val 6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استفادة من التحليل الم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2205000"/>
            <a:ext cx="7775280" cy="374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سياسات و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بيئ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حجم المشرو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صناع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طبيعة النسب المالية وتركيب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حلل المالي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ستفيدين من التحليل الم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EABC-67E0-49C5-ADEE-20AA64790F91}" type="slidenum">
              <a:t>8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57:27Z</dcterms:modified>
  <cp:revision>28</cp:revision>
  <dc:subject/>
  <dc:title>التحليل المالي والائتماني</dc:title>
</cp:coreProperties>
</file>